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92BC-D5B5-437A-BDC8-DDF92BA1E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visual disturbances or changes would require immediate medical attention?</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signs and symptoms of refractive error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requires fitting with artificial lenses (glasses, contact lenses) or surgical correct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yeball shape in hyperopia?</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yeball shape in myopi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tigmatism, cornea is not spherical and light rays are diffused unevenly.</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esbyopia?</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Nystagmus?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bismus can develop in infancy or early childhood. By what age, if treated, is it reversible?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ults, underlying conditions such as hypertension, diabetes, or head injury causes problems with eye muscles or related cranial nerves. Condition may or may not be correctab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halaz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epharitis involves the hair follicles and glands on the margins of the eyeli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ntrop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ctrop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lepharoptosi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onjunctiva? Where are they locat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reated with antibiotics or antiviral drugs, if severe. Usually, self-limited and resolves within 1-2 week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cataract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to remove the catara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glaucoma is left untreat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ymptoms of glaucoma?</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surgery is needed to create opening in the iri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ed to be age-related. Genetic factors and exposure to bright light are also relat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ular degeneration is the most common cause of blindness in the United State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 cure for macular degenerat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reatmen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s 8-10 years after onset of diabetes mellitus, especially those with poor glucose control.</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for diabetic retinopathy?</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symptom is dark shadow from periphery extending inwar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the retina to detach?</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pt surgical treatment is needed to reattach and prevent extension of tear.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otherapy can be used to treat tears without detachment.</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cause corneal abrasion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cleriti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eitis is an inflammation of the iris, ciliary body and choroid. It can be associated with juvenile rheumatoid arthritis and other autoimmune disorders. Infections such as tuberculosis or syphilis can also cause it.</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exophthalmos?</a:t>
            </a:r>
            <a:endParaRPr b="0" lang="en-US" sz="1200" spc="-1" strike="noStrike">
              <a:solidFill>
                <a:srgbClr val="000000"/>
              </a:solidFill>
              <a:latin typeface="Times New Roman"/>
            </a:endParaRPr>
          </a:p>
          <a:p>
            <a:pPr marL="120600" indent="-120600">
              <a:spcBef>
                <a:spcPts val="451"/>
              </a:spcBef>
              <a:buClr>
                <a:srgbClr val="ff473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473b"/>
                </a:solidFill>
                <a:latin typeface="Times New Roman"/>
              </a:rPr>
              <a:t>How are these conditions treat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retinoblastoma? Who does it most often affect?</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mor of the eye often is metastases from other anatomic location.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hearing, what other functions do ears perform?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blems would prevent the relay of sound from the outer ear to the inner ear?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orders of hearing can occur with problems in any of these physiologic step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ear – pinna, auditory canal</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ear – tympanic membrane, malleus, incus, stapes, oval window, round window</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er ear – semicircular canals (labyrinth), cochlea, eustachian tube, vestibulocochlear nerv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causes of hearing los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rugs or medications can cause hearing problems (e.g., aspirin, loop diuretics, chemotherapy agent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nvironmental chemicals can cause permanent hearing loss (e.g., hexane, xylen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wimmer’s ear? Is it actually caused by swimming?</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osclerosis is an abnormal bony growth in the middle ear.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does otosclerosis usually affec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caused cerumen accumulation, seborrhea, psoriasis, trauma to the ear canal.</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of infective otitis extern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reason for visits to doctor by children.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otiti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urative otitis is painful, and general symptoms of infection are present. It is caused by bacteria that enters through the nose, throat or ruptured tympanic membrane. Allergic response of the eustachian tube with swelling is sometimes responsib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oscope reveals inflamed tympanic membrane that may be bulging from fluid accumulation behind it.</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ringotomy tubes may be inserted to prevent fluid from reaccumulating.</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trophied adenoids may need to be removed if condition becomes chronic.</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ause of Ménière disease?</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presents between 40-50 year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usea and vomiting, sweating, and loss of balance can accompany the vertigo.</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symptoms of labyrinthiti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embranes get ruptur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issue graft may be indicated, tympanoplasty, to repair the ruptured membran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cholesteatoma develop?</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oiditis is treated with antibiotics for the underlying infection. If severe or chronic, mastoidectomy may be indicated to remove the mastoid and preserve hearing.</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occur spontaneously and suddenly or have a slow onset.</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termed “occupational hearing los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for sensorineural hearing los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vestibular system normally help with equilibrium?</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a person with BPPV describe the vertigo experience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can include hearing loss, tinnitus, loss of balance, discharge. May be slow onset and thought of as troublesome rather than serious condit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for cancer of the ea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orders of vision can occur with problems in any of these physiologic step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rods and cones and what is their function?</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extrinsic eye muscles control coordinated movement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eye disorders can be part of other systemic diseases?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non-vision related symptoms that may indicate problems with the ey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8"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2"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6"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5"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1"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0" y="6384960"/>
            <a:ext cx="914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sevier items and derived items © 2009 by Saunders, an imprint of Elsevier Inc.</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0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00"/>
              </a:buClr>
              <a:buSzPct val="75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Essentials of Human Diseases and Conditions </a:t>
            </a:r>
            <a:br>
              <a:rPr sz="4000"/>
            </a:br>
            <a:r>
              <a:rPr b="0" i="1" lang="en-US" sz="2400" spc="-1" strike="noStrike">
                <a:solidFill>
                  <a:srgbClr val="ffff00"/>
                </a:solidFill>
                <a:latin typeface="Arial"/>
              </a:rPr>
              <a:t>4</a:t>
            </a:r>
            <a:r>
              <a:rPr b="0" i="1" lang="en-US" sz="2400" spc="-1" strike="noStrike" baseline="30000">
                <a:solidFill>
                  <a:srgbClr val="ffff00"/>
                </a:solidFill>
                <a:latin typeface="Arial"/>
              </a:rPr>
              <a:t>th</a:t>
            </a:r>
            <a:r>
              <a:rPr b="0" i="1" lang="en-US" sz="2400" spc="-1" strike="noStrike">
                <a:solidFill>
                  <a:srgbClr val="ffff00"/>
                </a:solidFill>
                <a:latin typeface="Arial"/>
              </a:rPr>
              <a:t> edition</a:t>
            </a:r>
            <a:endParaRPr b="0" lang="en-US" sz="2400" spc="-1" strike="noStrike">
              <a:solidFill>
                <a:srgbClr val="ffff00"/>
              </a:solidFill>
              <a:latin typeface="Arial"/>
            </a:endParaRPr>
          </a:p>
        </p:txBody>
      </p:sp>
      <p:sp>
        <p:nvSpPr>
          <p:cNvPr id="85" name="PlaceHolder 2"/>
          <p:cNvSpPr>
            <a:spLocks noGrp="1"/>
          </p:cNvSpPr>
          <p:nvPr>
            <p:ph type="subTitle"/>
          </p:nvPr>
        </p:nvSpPr>
        <p:spPr>
          <a:xfrm>
            <a:off x="1371600" y="3123720"/>
            <a:ext cx="6400800" cy="1752840"/>
          </a:xfrm>
          <a:prstGeom prst="rect">
            <a:avLst/>
          </a:prstGeom>
          <a:noFill/>
          <a:ln w="0">
            <a:noFill/>
          </a:ln>
        </p:spPr>
        <p:txBody>
          <a:bodyPr lIns="92160" rIns="92160" tIns="46080" bIns="4608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garet Schell Frazier</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ette Wist Drzymkowsk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and symptoms that need medical att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ollen, red eyelid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ness of the ey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inage or exudat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ions/sor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untary eye movement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Vi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a:t>
            </a:r>
            <a:endParaRPr b="0" lang="en-US" sz="3600" spc="-1" strike="noStrike">
              <a:solidFill>
                <a:srgbClr val="ffff00"/>
              </a:solidFill>
              <a:latin typeface="Arial"/>
            </a:endParaRPr>
          </a:p>
        </p:txBody>
      </p:sp>
      <p:sp>
        <p:nvSpPr>
          <p:cNvPr id="103" name="PlaceHolder 2"/>
          <p:cNvSpPr>
            <a:spLocks noGrp="1"/>
          </p:cNvSpPr>
          <p:nvPr>
            <p:ph/>
          </p:nvPr>
        </p:nvSpPr>
        <p:spPr>
          <a:xfrm>
            <a:off x="685800" y="1464840"/>
            <a:ext cx="7772400" cy="297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ractive Error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opia (Farsightedness)</a:t>
            </a:r>
            <a:endParaRPr b="0" lang="en-US" sz="28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 focused behind the retina, which impairs near vision</a:t>
            </a:r>
            <a:endParaRPr b="0" lang="en-US" sz="20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opia (Nearsightedness)</a:t>
            </a:r>
            <a:endParaRPr b="0" lang="en-US" sz="28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 focused in front of the retina, which impairs far vi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ve Errors </a:t>
            </a:r>
            <a:endParaRPr b="0" lang="en-US" sz="32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igmatism</a:t>
            </a:r>
            <a:endParaRPr b="0" lang="en-US" sz="28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focused unevenly onto the retina, which causes blurred areas</a:t>
            </a:r>
            <a:endParaRPr b="0" lang="en-US" sz="24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opia</a:t>
            </a:r>
            <a:endParaRPr b="0" lang="en-US" sz="28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ye cannot focus quickly to accommodate changes in distance</a:t>
            </a:r>
            <a:endParaRPr b="0" lang="en-US" sz="2400" spc="-1" strike="noStrike">
              <a:solidFill>
                <a:srgbClr val="ffffff"/>
              </a:solidFill>
              <a:latin typeface="Arial"/>
            </a:endParaRPr>
          </a:p>
        </p:txBody>
      </p:sp>
      <p:sp>
        <p:nvSpPr>
          <p:cNvPr id="10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ystagmu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untary, repetitive, rhythmic movements of one or both eyes</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bismu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 of the eyes to look together in the same direc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lid</a:t>
            </a:r>
            <a:endParaRPr b="0" lang="en-US" sz="3600" spc="-1" strike="noStrike">
              <a:solidFill>
                <a:srgbClr val="ffff00"/>
              </a:solidFill>
              <a:latin typeface="Arial"/>
            </a:endParaRPr>
          </a:p>
        </p:txBody>
      </p:sp>
      <p:sp>
        <p:nvSpPr>
          <p:cNvPr id="109"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ye lid disorders caused by inflammation, infection, or other condition include:</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rdeolum (stye)</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lazion (stye)</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epharitis</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ropion</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tropion</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epharoptosi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lid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11"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junctivit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the conjunctiva in one or both ey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ous discharge from the ey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caused by viral or bacterial infec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y contagio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ly called “pink ey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aract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udy area in the le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acity blocks light from reaching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develop slowl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ual reduction of visio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aucoma</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age to the optic nerve caused by elevated intraocular press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angle vs. closed-angl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major cause of blind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mon after age 60, but can occur at any 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mon with nearsightednes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cular Degenera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essive deterioration in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start with mild distortion of central vision and progress to complete lo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both eyes are affect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s to central vision blindness</a:t>
            </a:r>
            <a:endParaRPr b="0" lang="en-US" sz="2400" spc="-1" strike="noStrike">
              <a:solidFill>
                <a:srgbClr val="ffffff"/>
              </a:solidFill>
              <a:latin typeface="Arial"/>
            </a:endParaRPr>
          </a:p>
        </p:txBody>
      </p:sp>
      <p:sp>
        <p:nvSpPr>
          <p:cNvPr id="117"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betic Retinopathy</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d by small hemorrhages and newly formed vessels in the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d visual clar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both eyes are affect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cause of blindnes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6" name=""/>
          <p:cNvSpPr/>
          <p:nvPr/>
        </p:nvSpPr>
        <p:spPr>
          <a:xfrm>
            <a:off x="914400" y="2363760"/>
            <a:ext cx="7315200" cy="1827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5</a:t>
            </a:r>
            <a:br>
              <a:rPr sz="3200"/>
            </a:br>
            <a:r>
              <a:rPr b="0" lang="en-US" sz="3200" spc="-1" strike="noStrike">
                <a:solidFill>
                  <a:srgbClr val="ffff00"/>
                </a:solidFill>
                <a:latin typeface="Arial"/>
              </a:rPr>
              <a:t>Diseases and Disorders of the Eye and E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inal Detach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on of the retina from the choroi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sudden and painl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symptoms are seeing light flashes and floate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mon with nearsighted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in blindness if untreated</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common conditions that can affect the eye includ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neal abrasion or ulc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lerit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veit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ophthalmos</a:t>
            </a:r>
            <a:endParaRPr b="0" lang="en-US" sz="2400" spc="-1" strike="noStrike">
              <a:solidFill>
                <a:srgbClr val="ffffff"/>
              </a:solidFill>
              <a:latin typeface="Arial"/>
            </a:endParaRPr>
          </a:p>
        </p:txBody>
      </p:sp>
      <p:sp>
        <p:nvSpPr>
          <p:cNvPr id="123"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cer of the Ey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ign or malignant neoplasm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metastases from other primary canc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inoblastoma is most common primary malignancy of the eye in childre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ular melanoma is the most common ocular tumor in adults</a:t>
            </a:r>
            <a:endParaRPr b="0" lang="en-US" sz="2400" spc="-1" strike="noStrike">
              <a:solidFill>
                <a:srgbClr val="ffffff"/>
              </a:solidFill>
              <a:latin typeface="Arial"/>
            </a:endParaRPr>
          </a:p>
        </p:txBody>
      </p:sp>
      <p:sp>
        <p:nvSpPr>
          <p:cNvPr id="12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666880"/>
            <a:ext cx="73152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5</a:t>
            </a:r>
            <a:br>
              <a:rPr sz="3200"/>
            </a:br>
            <a:r>
              <a:rPr b="0" lang="en-US" sz="2800" spc="-1" strike="noStrike">
                <a:solidFill>
                  <a:srgbClr val="ffff00"/>
                </a:solidFill>
                <a:latin typeface="Arial"/>
              </a:rPr>
              <a:t>Lesson 5.2</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Hearing</a:t>
            </a:r>
            <a:endParaRPr b="0" lang="en-US" sz="3600" spc="-1" strike="noStrike">
              <a:solidFill>
                <a:srgbClr val="ffff00"/>
              </a:solidFill>
              <a:latin typeface="Arial"/>
            </a:endParaRPr>
          </a:p>
        </p:txBody>
      </p:sp>
      <p:sp>
        <p:nvSpPr>
          <p:cNvPr id="12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ing requir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bratory or sound stimul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y of sound/vibration to inner 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ation of tiny hairs in cochle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impulses conducted to b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895480" y="990720"/>
            <a:ext cx="5166000" cy="5181480"/>
          </a:xfrm>
          <a:prstGeom prst="rect">
            <a:avLst/>
          </a:prstGeom>
          <a:ln w="0">
            <a:noFill/>
          </a:ln>
        </p:spPr>
      </p:pic>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ormal Ear</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s and symptoms that need medical att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ring lo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 pain or press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ing or buzzing noise (tinnit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go or dizzi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sea and vomiting</a:t>
            </a:r>
            <a:endParaRPr b="0" lang="en-US" sz="2400" spc="-1" strike="noStrike">
              <a:solidFill>
                <a:srgbClr val="ffffff"/>
              </a:solidFill>
              <a:latin typeface="Arial"/>
            </a:endParaRPr>
          </a:p>
        </p:txBody>
      </p:sp>
      <p:sp>
        <p:nvSpPr>
          <p:cNvPr id="13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Hearing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a:t>
            </a:r>
            <a:endParaRPr b="0" lang="en-US" sz="3600" spc="-1" strike="noStrike">
              <a:solidFill>
                <a:srgbClr val="ffff00"/>
              </a:solidFill>
              <a:latin typeface="Arial"/>
            </a:endParaRPr>
          </a:p>
        </p:txBody>
      </p:sp>
      <p:sp>
        <p:nvSpPr>
          <p:cNvPr id="13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orders of Conduc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ed cerume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ve otitis exter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mmer’s 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itis med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oscler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ve Otitis Externa</a:t>
            </a:r>
            <a:endParaRPr b="0" lang="en-US" sz="32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external ear canal with signs and symptoms of: </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 often sever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 swollen canal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ver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ch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inage, watery or purulen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ring los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itis Media</a:t>
            </a:r>
            <a:endParaRPr b="0" lang="en-US" sz="32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the middle ear with signs and symptoms of:</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ing of fullness or pressure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ired hear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 often sever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inage, watery or purulen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ver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usea and vomit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zzines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a:t>
            </a:r>
            <a:endParaRPr b="0" lang="en-US" sz="3600" spc="-1" strike="noStrike">
              <a:solidFill>
                <a:srgbClr val="ffff00"/>
              </a:solidFill>
              <a:latin typeface="Arial"/>
            </a:endParaRPr>
          </a:p>
        </p:txBody>
      </p:sp>
      <p:sp>
        <p:nvSpPr>
          <p:cNvPr id="8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processes of vision and hearing.</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all and define the four main refractive errors of vis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he pathology and etiology of nystagmus and that of strabismu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importance of early treatment of glaucoma. </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he possible causes of conjunctivit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itis Media</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include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gesics for pain relief</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ongestants to promote drainag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biotics (for suppurative otiti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ringotomy: surgical removal of the fluid in severe cases</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énière Disease</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disease of the inner ear</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drome includes: vertigo, tinnitus, progressive hearing loss and sensation of pressure</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dden onset of episodes (vertigo, tinnitus, etc.)</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ation of hours to days </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 is symptomatic relief, not curativ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yrinthit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labyrinth usually from viral or bacterial infection; can result from meningit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ptured tympanic membran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r or injury resulting from pressure, untreated middle ear infection, force or trau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lesteatoma</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st of infected skin cells within middle ear that erodes the cavity and ossicles</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toidit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the mastoid bone from untreated acute otitis media or associated with cholesteat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sorineural Hearing Los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impulses not transmitted to the brain due to damage to the cochlea or auditory nerv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ring loss can result from loud music, industrial noise, nearby explosion, medications, the aging process, and certain other caus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eversible, so prevention is essent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isorder of the vestibular system</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 a spinning sensation, nausea, vomiting, involuntary eye movements, and unsteady gait</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s and positional head exercises may help reduce symptoms</a:t>
            </a:r>
            <a:endParaRPr b="0" lang="en-US" sz="2800" spc="-1" strike="noStrike">
              <a:solidFill>
                <a:srgbClr val="ffffff"/>
              </a:solidFill>
              <a:latin typeface="Arial"/>
            </a:endParaRPr>
          </a:p>
        </p:txBody>
      </p:sp>
      <p:sp>
        <p:nvSpPr>
          <p:cNvPr id="15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nign Paroxysmal Positional Vertigo (BPPV)</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cer of the Ea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ign or malignant tumo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originate from any part of the 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stases from other primary canc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oustic neuroma: a common tumor that surrounds eighth cranial nerve; usually benign, but may be recurr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0" name="PlaceHolder 2"/>
          <p:cNvSpPr>
            <a:spLocks noGrp="1"/>
          </p:cNvSpPr>
          <p:nvPr>
            <p:ph/>
          </p:nvPr>
        </p:nvSpPr>
        <p:spPr>
          <a:xfrm>
            <a:off x="685800" y="1465200"/>
            <a:ext cx="7772400" cy="3959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causes of cataracts.</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susceptibility of diabetics to diabetic retinopathy. </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ze the visual disturbance caused by macular degeneration.</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why early diagnosis and treatment is important in retinal detachment.</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conductive hearing loss with sensorineural hearing lo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symptoms of otitis externa.</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treatment of otitis media.</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signs and symptoms of Ménière Disease.</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the importance of preventing sensorineural hearing los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2666880"/>
            <a:ext cx="73152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5</a:t>
            </a:r>
            <a:br>
              <a:rPr sz="3200"/>
            </a:br>
            <a:r>
              <a:rPr b="0" lang="en-US" sz="2800" spc="-1" strike="noStrike">
                <a:solidFill>
                  <a:srgbClr val="ffff00"/>
                </a:solidFill>
                <a:latin typeface="Arial"/>
              </a:rPr>
              <a:t>Lesson 5.1</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Vision</a:t>
            </a:r>
            <a:endParaRPr b="0" lang="en-US" sz="3600" spc="-1" strike="noStrike">
              <a:solidFill>
                <a:srgbClr val="ffff00"/>
              </a:solidFill>
              <a:latin typeface="Arial"/>
            </a:endParaRPr>
          </a:p>
        </p:txBody>
      </p:sp>
      <p:sp>
        <p:nvSpPr>
          <p:cNvPr id="95"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requir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timul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y of light/image to the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ation of rods and cones in the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impulses conducted to b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ormal Eye</a:t>
            </a:r>
            <a:endParaRPr b="0" lang="en-US" sz="3600" spc="-1" strike="noStrike">
              <a:solidFill>
                <a:srgbClr val="ffff00"/>
              </a:solidFill>
              <a:latin typeface="Arial"/>
            </a:endParaRPr>
          </a:p>
        </p:txBody>
      </p:sp>
      <p:pic>
        <p:nvPicPr>
          <p:cNvPr id="97" name="" descr=""/>
          <p:cNvPicPr/>
          <p:nvPr/>
        </p:nvPicPr>
        <p:blipFill>
          <a:blip r:embed="rId1"/>
          <a:stretch/>
        </p:blipFill>
        <p:spPr>
          <a:xfrm>
            <a:off x="685800" y="1515960"/>
            <a:ext cx="7772400" cy="43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and symptoms that need medical att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disturbances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equal pupils or sudden loss of vis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istent pain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ching or burning in or around the eyes</a:t>
            </a:r>
            <a:endParaRPr b="0" lang="en-US" sz="2400" spc="-1" strike="noStrike">
              <a:solidFill>
                <a:srgbClr val="ffffff"/>
              </a:solidFill>
              <a:latin typeface="Arial"/>
            </a:endParaRPr>
          </a:p>
        </p:txBody>
      </p:sp>
      <p:sp>
        <p:nvSpPr>
          <p:cNvPr id="99"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Vi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2:12:38Z</dcterms:created>
  <dc:creator>Michael &amp; Eleftheria Parafink</dc:creator>
  <dc:description/>
  <dc:language>en-US</dc:language>
  <cp:lastModifiedBy>azhagubalan</cp:lastModifiedBy>
  <dcterms:modified xsi:type="dcterms:W3CDTF">2008-01-31T10:32:46Z</dcterms:modified>
  <cp:revision>82</cp:revision>
  <dc:subject/>
  <dc:title>Diseases and Disorders of the Eye and Ear</dc:title>
</cp:coreProperties>
</file>